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CC9-3973-402A-8754-29BD6D56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BC3-577A-41CE-8AD6-7EBA615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5B6-A0DC-4F1A-B879-CBB80219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1D5-8EC3-409F-AAC3-8D2237DD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3FA-1A0C-44D7-92C9-13CCF846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A6B-C483-4CB1-A3F1-DBB15D08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9B8-5A32-4B85-AC54-18D1FF43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9FF-99A5-406C-BC38-2E3D7BDD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32E-44FE-439F-99A9-0EA38AF0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954-D0AD-438F-B041-88774F4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1AC-E025-4DC4-B2A8-98674280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9F8-06A3-40AC-9C02-09CA273F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51ED-3375-4F8B-9AEB-0BFC7FF92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00360" y="4365720"/>
            <a:ext cx="401004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rtin Luther K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635280" y="2060640"/>
            <a:ext cx="204804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Memory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935000" cy="273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25336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857320" cy="361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55640" y="549360"/>
            <a:ext cx="7345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 man who wanted peace in the world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9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2320920" cy="345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987640" y="549360"/>
            <a:ext cx="353376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man who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nted black people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have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qual rights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 white people..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2860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3463920" cy="431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908000" y="765000"/>
            <a:ext cx="475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e would risk his life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916360" y="476280"/>
            <a:ext cx="3429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 help his people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43160" y="2052720"/>
            <a:ext cx="28576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42920" y="620640"/>
            <a:ext cx="732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 would never use violence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2500200" cy="2557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48360" y="1484280"/>
            <a:ext cx="1873440" cy="2351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35280" y="4149720"/>
            <a:ext cx="3162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1640" y="765000"/>
            <a:ext cx="341964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ven when white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ople bombed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is house.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33112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916360" y="620640"/>
            <a:ext cx="388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 refused violence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1293840" cy="511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867280" y="2349360"/>
            <a:ext cx="25336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2920" y="549360"/>
            <a:ext cx="71629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 will be remembered for centuries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19280" y="1989000"/>
            <a:ext cx="3035160" cy="429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508720" y="2349360"/>
            <a:ext cx="26733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5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0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1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7:18:01Z</dcterms:created>
  <dc:creator>Bethan</dc:creator>
  <dc:description/>
  <dc:language>en-US</dc:language>
  <cp:lastModifiedBy>nb</cp:lastModifiedBy>
  <dcterms:modified xsi:type="dcterms:W3CDTF">2007-04-25T12:19:31Z</dcterms:modified>
  <cp:revision>3</cp:revision>
  <dc:subject/>
  <dc:title>Slide 1</dc:title>
</cp:coreProperties>
</file>